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BCD-8FCD-43D0-AA41-B8F22DE3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5F2-BC83-4D11-A6DF-DF2658BB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3BC-037B-4DB6-820C-562B4B6C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1B4-7477-4D2E-9F20-24DB81A0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EDA-09D5-4940-AA71-F83FD83E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AF9-3064-411F-9DB3-EF98C08D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827-9D75-4944-BB92-95780D0A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027-8238-44BC-9469-672A994B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F58-07CD-47C1-B374-396D7955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64C-7F3A-45AE-97CA-1FE620ED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289-79FB-4941-A5F1-7A332F2F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A83-83CB-4340-BFCC-1642892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2500-C4FE-49B9-92C5-0DCF87414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0: Agriculture, Biotechnology, and the Future of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tudy – Oaxaca, Me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s and Pollin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057400" y="4267080"/>
            <a:ext cx="66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se and other developments in the field of agriculture contain the makings of a new revolution. It is not a violent Red Revolution like that of the Soviets, nor is it a White Revolution like that of the Shah of Iran. I call it the Green Revolu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iam Gaud, USAID director.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green revolution” boosted agricultur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3"/>
          <p:cNvSpPr/>
          <p:nvPr/>
        </p:nvSpPr>
        <p:spPr>
          <a:xfrm>
            <a:off x="457200" y="16002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high-yielding varietie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YV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cereal g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sion of irrigati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rnization of management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ribution of hybridized seeds, synthetic fertilizers, and pesticides to farmers (preexisting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reen revolution has brought the environment both benefit and ha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9047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er y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d pressures to convert additional natural lands for new cul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lanting of crops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nocul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made planting and harvesting more 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190512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nsive application of water, fossil fuels, inorganic fertilizers, and synthetic pesticides worsened pollution, erosion, salinization, and deser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ocultural planting has reduced biodiversity over huge areas, increased susceptibility to disease, and narrowed the human di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Questions to consi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the green revolution solved problems, delayed our resolution of problems, or created new o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sustainable are green revolution approach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thomastravelinc.com/images/question_man.gif"/>
          <p:cNvPicPr/>
          <p:nvPr/>
        </p:nvPicPr>
        <p:blipFill>
          <a:blip r:embed="rId2"/>
          <a:stretch/>
        </p:blipFill>
        <p:spPr>
          <a:xfrm>
            <a:off x="6934320" y="3276720"/>
            <a:ext cx="685800" cy="166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90720" y="380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sts and Pollinato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57200" y="1219320"/>
            <a:ext cx="82296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Pests and weeds pose have always posed problem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organism that damages crops that are valuable to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plant that competes with c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organisms are simply attempting to survive and reproduce – There is truly no “malice” in their existence/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alfalfa-weevil-larva"/>
          <p:cNvPicPr/>
          <p:nvPr/>
        </p:nvPicPr>
        <p:blipFill>
          <a:blip r:embed="rId1"/>
          <a:stretch/>
        </p:blipFill>
        <p:spPr>
          <a:xfrm>
            <a:off x="685800" y="4038480"/>
            <a:ext cx="3048120" cy="210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organic-weed-killer-get-to-the-root-of-the-problem-image-300x238"/>
          <p:cNvPicPr/>
          <p:nvPr/>
        </p:nvPicPr>
        <p:blipFill>
          <a:blip r:embed="rId2"/>
          <a:stretch/>
        </p:blipFill>
        <p:spPr>
          <a:xfrm>
            <a:off x="5410080" y="3962520"/>
            <a:ext cx="3048120" cy="21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ousands of Chemical Pestici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ed to kil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cts (insect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s (Herb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gi (Fung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sms (Pest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$32 billion is spent every year on pesticides, 1/3 of which is spent in the U.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400 million kg of active ingredients from pesticides are applied in the U.S. every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sprayingweeds"/>
          <p:cNvPicPr/>
          <p:nvPr/>
        </p:nvPicPr>
        <p:blipFill>
          <a:blip r:embed="rId2"/>
          <a:stretch/>
        </p:blipFill>
        <p:spPr>
          <a:xfrm>
            <a:off x="4724280" y="1143000"/>
            <a:ext cx="3276720" cy="258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wing Resistance to Pesticid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art from the toxicity of the previously mentioned chemicals, usefulness declines over time as pests evolve resistances to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gene that promotes an immunity to a specific chemical may be shared through reprodu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olutionary Arms Race” occurs between industrial chemists and the pests they battle to find/use stronger chem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ological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ological Contr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ocontr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perates on the principle that “the enemy of one’s enemy is one’s frien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ly Introduces organisms to help fight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ctus moth introduced to Australia to fight Prickly Pear Cac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cillus thuringiensis (Bt)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ly occurring soil bacterium that produces a protein that kills caterpillars and the larvae of flies and beet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es are sprayed on crops fo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2361960" cy="157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5181480" y="2784600"/>
            <a:ext cx="2210040" cy="168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ocontrol can be Harm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ome cases, biocontrol agents have become invasive and unintentionally harmful to other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e to the success of the previously mentioned cactus moth, it was introduced to the Caribbean, and then spread to Florida and is now destroying native cacti the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Biocontrol works, it can be permanent in solving the problem, but if it fails the harm done can also be perman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grated P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izing the drawbacks of both chemical use and Biocontrol, farmers attempted to develop more sophisticated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Pest Management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gration of various techniques in order to achieve long-term suppression of pests, including Biocontrol, chemical use (if necessary), habitat alteration, crop rotation, transgenic crops, alternative tillage methods, and mechanical pest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ethod has become popular around the world in recen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l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The process by which male sex cells of a plant (pollen) fertilize female sex cells of a plant; recognized as the botanical version of sexual inter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influence by wind, or insects can play a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rvation is vit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tion of honeybee is decl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neybees pollinate over 100 crops that make up 1/3 of the U.S. diet, therefore contributing billions of dollars in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and homeowners can reduce or eliminate pesticide use in order to help maintain populations of pollinating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Study – Possible Transgenic Maize in Oaxaca,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rn was domesticated in Oaxaca 5500 years ag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ative varieties serve as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eservoirs of genetic diversity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at we may need to sustain or advance our agricultu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 2001 it was found that the genes of GM corn (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ransgen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had appeared in the genes of native maize, which caused widespread concer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other study conducted in 2003-04 found no transgenes at all :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ow does genetic modification of crops affect people and the environment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http://www.peacefulsocieties.org/Maps/Oaxaca.gif"/>
          <p:cNvPicPr/>
          <p:nvPr/>
        </p:nvPicPr>
        <p:blipFill>
          <a:blip r:embed="rId2"/>
          <a:stretch/>
        </p:blipFill>
        <p:spPr>
          <a:xfrm>
            <a:off x="5181480" y="1752480"/>
            <a:ext cx="3038760" cy="3592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87692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piritofmaat.com/announce/gecornm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(&gt;^.^)&gt;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Calibri"/>
              </a:rPr>
              <a:t>THE END!!!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&lt;(^.^&lt;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19"/>
          <p:cNvGrpSpPr/>
          <p:nvPr/>
        </p:nvGrpSpPr>
        <p:grpSpPr>
          <a:xfrm>
            <a:off x="1219320" y="-3962520"/>
            <a:ext cx="6629400" cy="3810240"/>
            <a:chOff x="1219320" y="-3962520"/>
            <a:chExt cx="6629400" cy="3810240"/>
          </a:xfrm>
        </p:grpSpPr>
        <p:pic>
          <p:nvPicPr>
            <p:cNvPr id="116" name="Picture 10" descr="http://www.menunkatuck.org/files/4912/6590/6285/balloons.gif"/>
            <p:cNvPicPr/>
            <p:nvPr/>
          </p:nvPicPr>
          <p:blipFill>
            <a:blip r:embed="rId1"/>
            <a:stretch/>
          </p:blipFill>
          <p:spPr>
            <a:xfrm>
              <a:off x="2895480" y="-3471120"/>
              <a:ext cx="1878480" cy="27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4" descr="http://www.menunkatuck.org/files/4912/6590/6285/balloons.gif"/>
            <p:cNvPicPr/>
            <p:nvPr/>
          </p:nvPicPr>
          <p:blipFill>
            <a:blip r:embed="rId2"/>
            <a:stretch/>
          </p:blipFill>
          <p:spPr>
            <a:xfrm>
              <a:off x="6172560" y="-3471120"/>
              <a:ext cx="16761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http://www.menunkatuck.org/files/4912/6590/6285/balloons.gif"/>
            <p:cNvPicPr/>
            <p:nvPr/>
          </p:nvPicPr>
          <p:blipFill>
            <a:blip r:embed="rId3"/>
            <a:stretch/>
          </p:blipFill>
          <p:spPr>
            <a:xfrm>
              <a:off x="4496040" y="-3962520"/>
              <a:ext cx="256176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8" descr="http://www.menunkatuck.org/files/4912/6590/6285/balloons.gif"/>
            <p:cNvPicPr/>
            <p:nvPr/>
          </p:nvPicPr>
          <p:blipFill>
            <a:blip r:embed="rId4"/>
            <a:stretch/>
          </p:blipFill>
          <p:spPr>
            <a:xfrm>
              <a:off x="1219320" y="-3606840"/>
              <a:ext cx="1981080" cy="294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1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2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producing more food per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the past half century, our ability to produce food has grown faster than the global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because of political obstacles and distribution inefficiencies, 850 million people in developing countries don’t have enough to eat (down to 13% from 26% in 197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http://c1.planetsave.com/files/2010/08/Food_production_per_capita_1961-2005.png"/>
          <p:cNvPicPr/>
          <p:nvPr/>
        </p:nvPicPr>
        <p:blipFill>
          <a:blip r:embed="rId1"/>
          <a:stretch/>
        </p:blipFill>
        <p:spPr>
          <a:xfrm>
            <a:off x="457200" y="163512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K:\CLASSES 2010-2011\environmental - hakim\Global population and cereal production.png"/>
          <p:cNvPicPr/>
          <p:nvPr/>
        </p:nvPicPr>
        <p:blipFill>
          <a:blip r:embed="rId2"/>
          <a:stretch/>
        </p:blipFill>
        <p:spPr>
          <a:xfrm>
            <a:off x="457200" y="1676520"/>
            <a:ext cx="4419720" cy="332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K:\CLASSES 2010-2011\environmental - hakim\Irrigation_canals_Egy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producing more food per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sts &amp; policymakers pursue a goal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d secu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guarantee of an adequate and reliable food supply for all people at all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ote more fossil fuel energy to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t and harvest more frequ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use of irrigation, fertilizer, and pestic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amount of cultivated 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productive crop and livestock var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http://www.imaging-famine.org/blog/wp-content/uploads/2010/08/Picture-1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http://media.economist.com/images/images-magazine/2011/02/26/sr/20110226_src047.gif"/>
          <p:cNvPicPr/>
          <p:nvPr/>
        </p:nvPicPr>
        <p:blipFill>
          <a:blip r:embed="rId1"/>
          <a:stretch/>
        </p:blipFill>
        <p:spPr>
          <a:xfrm>
            <a:off x="762120" y="1981080"/>
            <a:ext cx="3705120" cy="3591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producing more food per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grain production per person has decreased 9% since 1985 (varies by reg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arly all the planet’s arable land has been clai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no guarantee that food production will continue to outpace population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37720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334120" y="56386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conomist.com/node/182006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orld Grain Production and Consumption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face undernourishment, overnutrition, and mal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dernourish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developing countries – an economic problem (low incomes… half the world population lives on &lt; $2/day). About a billion undernourished people. 31 million Americans are “food insecur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ver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developed nations – abundance of food, cheap junk food, sedentary life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l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shortage of nutrients the body needs. Can affect both undernourished and overnourished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File:Kwashiorkor 6903.jpg"/>
          <p:cNvPicPr/>
          <p:nvPr/>
        </p:nvPicPr>
        <p:blipFill>
          <a:blip r:embed="rId1"/>
          <a:stretch/>
        </p:blipFill>
        <p:spPr>
          <a:xfrm>
            <a:off x="457200" y="3809880"/>
            <a:ext cx="3657600" cy="27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3.bp.blogspot.com/_PjETEQ8gO7M/TEI22FcelrI/AAAAAAAAA3c/JeLb7v0g0Rg/s1600/k1(2).jpg"/>
          <p:cNvPicPr/>
          <p:nvPr/>
        </p:nvPicPr>
        <p:blipFill>
          <a:blip r:embed="rId2"/>
          <a:stretch/>
        </p:blipFill>
        <p:spPr>
          <a:xfrm>
            <a:off x="4572000" y="3886200"/>
            <a:ext cx="396252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green revolution” boosted agricultural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sire for greater quantity &amp; quality of food led in the mid- and late-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ntury to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een rev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1940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rman Borlau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ed a special strain of wheat to Mexico, which soon tripled wheat p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developing nations followed – India, Pakistan, etc. (saved India from famine in 1970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cache2.asset-cache.net/xc/50624345.jpg?v=1&amp;c=IWSAsset&amp;k=2&amp;d=E41C9FE5C4AA0A146B19BE0A8357EA38B1288A7C78D7D85A4760B9EE26FC5BD8B01E70F2B3269972"/>
          <p:cNvPicPr/>
          <p:nvPr/>
        </p:nvPicPr>
        <p:blipFill>
          <a:blip r:embed="rId2"/>
          <a:stretch/>
        </p:blipFill>
        <p:spPr>
          <a:xfrm>
            <a:off x="457200" y="1600200"/>
            <a:ext cx="4048200" cy="3325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04920" y="54864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emporary success in man’s war against hunger and depriv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419720" y="563868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opinionator.blogs.nytimes.com/2011/03/08/sustainable-farming/?smid=tw-NYTOpinionator&amp;seid=a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3:47:11Z</dcterms:created>
  <dc:creator>Allen</dc:creator>
  <dc:description/>
  <dc:language>en-US</dc:language>
  <cp:lastModifiedBy>Allen</cp:lastModifiedBy>
  <dcterms:modified xsi:type="dcterms:W3CDTF">2011-03-16T00:20:17Z</dcterms:modified>
  <cp:revision>55</cp:revision>
  <dc:subject/>
  <dc:title>Ch 10: Agriculture, Biotech., and the Future of Food</dc:title>
</cp:coreProperties>
</file>